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94B-9713-430E-84A5-5375017E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AAF-BE1C-4958-A487-EF15CF45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C99-C9E7-4F8D-991E-DB76478D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ADA-8A40-4B80-8A34-12528565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75DD-9F08-4FD5-8E05-152BE104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51B9-DFB0-4DA4-AB81-F720577E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42EB-54A8-4AEE-99E2-E32F95AC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0DC-5A0C-4548-A282-079CC613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44BF-7FC3-4718-AE47-B84CB30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A67-1BBF-4497-AE9B-7D46E6A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32D2-87BF-4EAA-9307-728D64B7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E4E-E07A-4E5D-9FA8-D1D7FCB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8BD-B47C-4BE3-8B77-3E11AA5B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2F14-E444-4C07-AD24-2E9EE38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D06E-3CDD-4F2C-96A9-461A1A54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49DF-C81B-4FDF-A33E-27933D40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A0A0-DD34-4F3B-9E2F-A828C759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13D-5646-4E82-B30C-2B0037EF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947-0C3A-43AD-866B-B5C4867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79C-8506-496E-A59F-6B16E6C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639-65E6-401A-8103-EFC4360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675-99CA-4881-BBB4-37457E2C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565-3416-4AD6-AFFC-D4AC0E2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4DB-2DDE-4A98-9C3C-5564207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AF78-C97A-4182-A00E-F333407FCC5D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C05-E5DD-46A8-9EFC-347A065BCFF2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006D-371D-468D-B9CF-0624B66011AC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D8C-AE55-40FA-B70A-1FF6CDCBD59C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99"/>
                </a:solidFill>
                <a:latin typeface="Times New Roman"/>
              </a:rPr>
              <a:t>Дипломный проект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Анализ эффективности рекламы ПО «ХимСтальКомплект»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в сети Интернет»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азработал:  Механов Е.В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уководитель:  Шовкун Э.А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6f6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Цели создания корпоративного сайта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О «ХимСтальКомплек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здание имиджа компании - корпоративная реклам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сультативная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ивлечение новых клиентов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нижение затрат на реклам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величение объема прода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762120"/>
            <a:ext cx="7440480" cy="1003320"/>
            <a:chOff x="1143000" y="762120"/>
            <a:chExt cx="7440480" cy="1003320"/>
          </a:xfrm>
        </p:grpSpPr>
        <p:sp>
          <p:nvSpPr>
            <p:cNvPr id="88" name=""/>
            <p:cNvSpPr/>
            <p:nvPr/>
          </p:nvSpPr>
          <p:spPr>
            <a:xfrm>
              <a:off x="1143000" y="762120"/>
              <a:ext cx="2057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5720" y="762120"/>
              <a:ext cx="18777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2193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2d5b"/>
                </a:solidFill>
                <a:latin typeface="Tahoma"/>
              </a:rPr>
              <a:t>Число клиентов, в зависимости от видов Интернет рекламы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ahoma"/>
                <a:ea typeface="Times New Roman"/>
              </a:rPr>
              <a:t>Среднее количество клиентов, обратившихся в  компании трубного сектора</a:t>
            </a:r>
            <a:r>
              <a:rPr b="1" lang="ru-RU" sz="3600" spc="-1" strike="noStrike">
                <a:solidFill>
                  <a:srgbClr val="cccc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79640" y="1374840"/>
          <a:ext cx="722628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374840"/>
                    <a:ext cx="722628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уемые виды рекламы для достижения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максимального эффекта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1295280"/>
            <a:ext cx="8076600" cy="4957920"/>
            <a:chOff x="762120" y="1295280"/>
            <a:chExt cx="8076600" cy="4957920"/>
          </a:xfrm>
        </p:grpSpPr>
        <p:grpSp>
          <p:nvGrpSpPr>
            <p:cNvPr id="102" name=""/>
            <p:cNvGrpSpPr/>
            <p:nvPr/>
          </p:nvGrpSpPr>
          <p:grpSpPr>
            <a:xfrm>
              <a:off x="768240" y="1299600"/>
              <a:ext cx="8063280" cy="4948200"/>
              <a:chOff x="768240" y="1299600"/>
              <a:chExt cx="8063280" cy="4948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240" y="1299600"/>
                <a:ext cx="3529080" cy="630000"/>
                <a:chOff x="768240" y="1299600"/>
                <a:chExt cx="3529080" cy="630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58960" y="1299600"/>
                  <a:ext cx="33472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240" y="1299600"/>
                  <a:ext cx="352908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297680" y="1299600"/>
                <a:ext cx="4533840" cy="630000"/>
                <a:chOff x="4297680" y="1299600"/>
                <a:chExt cx="4533840" cy="630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388400" y="1299600"/>
                  <a:ext cx="43524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Бес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97680" y="1299600"/>
                  <a:ext cx="453384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68240" y="1929600"/>
                <a:ext cx="3529080" cy="1349280"/>
                <a:chOff x="768240" y="1929600"/>
                <a:chExt cx="3529080" cy="1349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58960" y="1929600"/>
                  <a:ext cx="334728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рекламных баннеров на отраслевых ресурс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8240" y="1929600"/>
                  <a:ext cx="352908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97680" y="1929600"/>
                <a:ext cx="4533840" cy="1349280"/>
                <a:chOff x="4297680" y="1929600"/>
                <a:chExt cx="4533840" cy="1349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88400" y="1929600"/>
                  <a:ext cx="435240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траслевые доски объявлений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делы “Продукция” на сайтах – система прайс-листов и потребностей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аталоги “Предприятий”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97680" y="1929600"/>
                  <a:ext cx="453384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8240" y="3278880"/>
                <a:ext cx="3529080" cy="989280"/>
                <a:chOff x="768240" y="3278880"/>
                <a:chExt cx="3529080" cy="989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58960" y="327888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объявлений в тематических отраслевых рассылк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8240" y="327888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97680" y="3278880"/>
                <a:ext cx="4533840" cy="989280"/>
                <a:chOff x="4297680" y="3278880"/>
                <a:chExt cx="4533840" cy="989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388400" y="327888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рямые почтовые рассылк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7680" y="327888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8240" y="4268520"/>
                <a:ext cx="3529080" cy="989280"/>
                <a:chOff x="768240" y="4268520"/>
                <a:chExt cx="3529080" cy="98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58960" y="426852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онтекстный показ баннеров на поисковых системах (Yandex.ru и др.)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8240" y="426852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297680" y="4268520"/>
                <a:ext cx="4533840" cy="989280"/>
                <a:chOff x="4297680" y="4268520"/>
                <a:chExt cx="4533840" cy="989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388400" y="426852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бмен ссылками с другими сайтам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297680" y="426852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240" y="5258160"/>
                <a:ext cx="3529080" cy="989640"/>
                <a:chOff x="768240" y="5258160"/>
                <a:chExt cx="3529080" cy="989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58960" y="5258160"/>
                  <a:ext cx="334728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латное размещение баннеров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240" y="5258160"/>
                  <a:ext cx="352908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297680" y="5258160"/>
                <a:ext cx="4533840" cy="989640"/>
                <a:chOff x="4297680" y="5258160"/>
                <a:chExt cx="4533840" cy="989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88400" y="5258160"/>
                  <a:ext cx="435240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Участие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97680" y="5258160"/>
                  <a:ext cx="453384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62120" y="1295280"/>
              <a:ext cx="8076600" cy="4957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СЕЩАЕМОСТЬ САЙТА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 «ХИМСТАЛЬКОМПЛЕКТ» </a:t>
            </a:r>
            <a:br>
              <a:rPr sz="24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12.2001г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по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01.2003г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1444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447920"/>
          <a:ext cx="75438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7543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ahoma"/>
                <a:ea typeface="Times New Roman"/>
              </a:rPr>
              <a:t>Отдела рекламы ПО «ХимСтальКомплект» до реорганизации</a:t>
            </a:r>
            <a:r>
              <a:rPr b="1" lang="ru-RU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523880"/>
            <a:ext cx="441936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Начальник отдела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886200"/>
            <a:ext cx="373356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886200"/>
            <a:ext cx="380988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429000"/>
            <a:ext cx="41911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ccd9"/>
            </a:gs>
            <a:gs pos="50000">
              <a:srgbClr val="ccffff"/>
            </a:gs>
            <a:gs pos="100000">
              <a:srgbClr val="a7ccd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90099"/>
                </a:solidFill>
                <a:latin typeface="Tahoma"/>
                <a:ea typeface="Times New Roman"/>
              </a:rPr>
              <a:t>Отдел рекламы после реорганизации</a:t>
            </a:r>
            <a:r>
              <a:rPr b="0" lang="ru-RU" sz="35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2760" y="1295280"/>
            <a:ext cx="40384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Ведущий 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514600"/>
            <a:ext cx="3276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743200"/>
            <a:ext cx="3505320" cy="14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продвижения товаров и стимулирования сбыта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743200"/>
            <a:ext cx="350532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организации рекламных кампаний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родвижения товаров и стимулирования сбыта 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о рекламе  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362320"/>
            <a:ext cx="0" cy="15228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06:24:26Z</dcterms:created>
  <dc:creator>Козлова М.Е.</dc:creator>
  <dc:description/>
  <dc:language>en-US</dc:language>
  <cp:lastModifiedBy>user</cp:lastModifiedBy>
  <dcterms:modified xsi:type="dcterms:W3CDTF">2003-06-05T01:59:54Z</dcterms:modified>
  <cp:revision>59</cp:revision>
  <dc:subject/>
  <dc:title>Дипломный проект</dc:title>
</cp:coreProperties>
</file>